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24D2C-6E3E-4FAE-B54C-CA38B70D5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95661-FD73-4E4B-A32A-ED2F53209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DCB7F-D610-4F63-AEF8-32F642DBF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9C5BB-D558-4272-9B02-4DEA844A1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9E4BF-B4DD-4B36-A0ED-371031283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3CECC-039A-4BEF-9F5E-08CBF78C7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92323-2C3A-401F-ADDA-71B91D400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9DC9E-CE49-44BA-BCAC-4EB3F3E58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D5119-DB31-410A-B3AF-E387A01E2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360D9-7DC8-45AD-90EC-18C7CFE16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F8F31-32CC-47AE-9EFF-F652EDFEE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6D8A5-E556-46A6-A043-13D60B9B7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64131-02D7-4253-92D6-EACF8E96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4AEA1-C2B8-4D08-89D8-40E50757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76DD0-1876-41BD-A691-149587D0C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C6A92-1ACA-43BF-A42F-D3440A45F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92E92-BED4-4C52-98AD-F9D31895C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93C0B-8FC5-4BD0-9649-0096C3C2A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B30E4-29D9-4110-B1A1-66E29C60A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280D0-04C2-4F4B-9788-8D30226A9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B5A66-2971-4605-B5E1-B82ED61E8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2EBC6-D9E2-4C34-B9D4-CC033E4E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86295-B347-40F0-9FAA-7F3592D0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B7CB1-48C8-44B0-8DBD-C33A9C368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86469-114B-47CB-A922-7F10D44842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6B2EA-88CA-4C48-84B4-77CBA2DB8E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eaking a Double Column Transposition Cipher Help Pres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9560" y="52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yptanalysis of a D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13920" y="1936800"/>
            <a:ext cx="830124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weakness of the double column transposition cipher lies in the use of the same pair of keys on several plaintext messages all of the same siz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xample, if the following 4 messages between Bob and Alice were intercept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816480" y="3309840"/>
            <a:ext cx="75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tmai atecb bsbnq xivjb eecqu heikn oxlct sedwn oowqq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exda aqmue caeon io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16480" y="4100400"/>
            <a:ext cx="75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nbt tjliu eeyhq xotbi dttqy dwbml bxooa oweal hoaq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xbh tqaut iekau woc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16480" y="4919760"/>
            <a:ext cx="75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nat rtwle bocoq xhofb aurqe oxino oxlir defar uhoq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xbn nqttn cgwoo rt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6480" y="5700600"/>
            <a:ext cx="758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wsbe lymtt ernrq xtnei olfqt lebne uxorb okorl ocmq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exru oqwhe oogao aac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4E8BA-CBF4-4020-81F1-01C63F7EBB6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3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all 4 messages 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 dep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 that is one on top of the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 it as a large anagramming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66120" y="4038480"/>
            <a:ext cx="8288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tmai atecb bsbnq xivjb eecqu heikn oxlct sedwn oowqq texda aqmue caeon io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anbt tjliu eeyhq xotbi dttqy dwbml bxooa oweal hoaqp nexbh tqaut iekau woc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nat rtwle bocoq xhofb aurqe oxino oxlir defar uhoqe mexbn nqttn cgwoo rt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wsbe lymtt ernrq xtnei olfqt lebne uxorb okorl ocmqf iexru oqwhe oogao aac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86880" y="5576760"/>
            <a:ext cx="52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lumns of “x” should all go to the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440080" y="3773520"/>
            <a:ext cx="6057720" cy="295200"/>
            <a:chOff x="2440080" y="3773520"/>
            <a:chExt cx="6057720" cy="295200"/>
          </a:xfrm>
        </p:grpSpPr>
        <p:sp>
          <p:nvSpPr>
            <p:cNvPr id="124" name=""/>
            <p:cNvSpPr/>
            <p:nvPr/>
          </p:nvSpPr>
          <p:spPr>
            <a:xfrm>
              <a:off x="2440080" y="3773520"/>
              <a:ext cx="0" cy="29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458960" y="3773520"/>
              <a:ext cx="0" cy="29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478200" y="3773520"/>
              <a:ext cx="0" cy="29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497800" y="3773520"/>
              <a:ext cx="0" cy="29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BF9A0-7805-4764-B218-A6BFBADE689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72500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 provides a special anagramming tool for Double Column Transposi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809720" y="2728800"/>
            <a:ext cx="5381640" cy="382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25E01-FD6A-4082-B3CA-93B8FC67F09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3-11T02:09:37Z</dcterms:modified>
  <cp:revision>70</cp:revision>
  <dc:subject/>
  <dc:title>CAP Cryptographic Analysis Program</dc:title>
</cp:coreProperties>
</file>